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492500" cy="41767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995480" y="685440"/>
            <a:ext cx="28670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C184-2AE8-4FE2-A630-8BD27AB7BD3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995480" y="685800"/>
            <a:ext cx="286704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表面デー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0064-FA8E-4601-A5DE-CB94677C9D7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5827-1E4F-4128-B273-D4E0C0A67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4240" y="974520"/>
            <a:ext cx="31431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8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4240" y="2414880"/>
            <a:ext cx="31431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8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B2AE-E565-435C-8675-57AB1A27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4240" y="97452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84880" y="97452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4240" y="241488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784880" y="241488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87B9-35D2-4B91-9089-32DC3498E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4240" y="974520"/>
            <a:ext cx="10119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4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37320" y="974520"/>
            <a:ext cx="10119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4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300040" y="974520"/>
            <a:ext cx="10119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4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4240" y="2414880"/>
            <a:ext cx="10119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4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37320" y="2414880"/>
            <a:ext cx="10119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4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300040" y="2414880"/>
            <a:ext cx="10119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4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CEFF-810C-4042-A207-C5EC24E88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4240" y="974520"/>
            <a:ext cx="3143160" cy="27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593B-3E55-4218-B696-82EBDBC1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4240" y="974520"/>
            <a:ext cx="3143160" cy="2757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7405-F574-4FFE-8F84-B357E3E0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4240" y="974520"/>
            <a:ext cx="1533600" cy="2757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5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784880" y="974520"/>
            <a:ext cx="1533600" cy="2757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5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3605-54A7-4E9B-A992-BE52D63D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F17E-9109-4882-ACB4-2618157C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4240" y="168120"/>
            <a:ext cx="3143160" cy="322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ABEC-44FA-4A3A-A8A8-544D99EE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4240" y="97452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784880" y="974520"/>
            <a:ext cx="1533600" cy="2757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5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4240" y="241488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5CA7-CE5F-4E01-98CF-B5F6524D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4240" y="974520"/>
            <a:ext cx="1533600" cy="2757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5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784880" y="97452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84880" y="241488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BB90-E22D-4375-933A-8DEDBCF0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4240" y="97452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784880" y="97452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4240" y="2414880"/>
            <a:ext cx="31431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8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EBEC-B8A9-4258-8904-BAADBB0C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240" y="168120"/>
            <a:ext cx="3143160" cy="6955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4240" y="974520"/>
            <a:ext cx="3143160" cy="2757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38000"/>
          </a:bodyPr>
          <a:p>
            <a:pPr marL="177120" indent="-1771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384120" indent="-147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2" marL="591120" indent="-118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3" marL="827640" indent="-11808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4" marL="1064160" indent="-11808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5" marL="1064160" indent="-11808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6" marL="1064160" indent="-11808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4600" y="3871800"/>
            <a:ext cx="814320" cy="222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92320" y="3871800"/>
            <a:ext cx="1108080" cy="222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503440" y="3871800"/>
            <a:ext cx="814320" cy="222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7F87-2956-4402-95F9-3A3427C99DD0}" type="slidenum">
              <a:rPr b="0" lang="ja-JP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6"/>
          <p:cNvSpPr/>
          <p:nvPr/>
        </p:nvSpPr>
        <p:spPr>
          <a:xfrm>
            <a:off x="-1566720" y="950760"/>
            <a:ext cx="151272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4560" rIns="124560" tIns="62280" bIns="62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■</a:t>
            </a:r>
            <a:r>
              <a:rPr b="0" lang="en-US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2</a:t>
            </a: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つ折参加証テンプレート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●</a:t>
            </a: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スライドサイズ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（塗り足しサイズ）</a:t>
            </a:r>
            <a:br>
              <a:rPr sz="700"/>
            </a:b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　幅</a:t>
            </a:r>
            <a:r>
              <a:rPr b="0" lang="en-US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97mm</a:t>
            </a: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高さ</a:t>
            </a:r>
            <a:r>
              <a:rPr b="0" lang="en-US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116mm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●</a:t>
            </a: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赤枠（仕上がりサイズ）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　幅</a:t>
            </a:r>
            <a:r>
              <a:rPr b="0" lang="en-US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91</a:t>
            </a:r>
            <a:r>
              <a:rPr b="0" lang="en-US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㎜</a:t>
            </a: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高さ</a:t>
            </a:r>
            <a:r>
              <a:rPr b="0" lang="en-US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110</a:t>
            </a:r>
            <a:r>
              <a:rPr b="0" lang="en-US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㎜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※</a:t>
            </a:r>
            <a:r>
              <a:rPr b="0" lang="ja-JP" sz="7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フチまでイラストや写真が入る場合は、見本の様に、スライドいっぱいまで、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※</a:t>
            </a:r>
            <a:r>
              <a:rPr b="0" lang="en-US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PDF</a:t>
            </a: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形式で保存してご入稿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正方形/長方形 1"/>
          <p:cNvSpPr/>
          <p:nvPr/>
        </p:nvSpPr>
        <p:spPr>
          <a:xfrm>
            <a:off x="0" y="0"/>
            <a:ext cx="3492360" cy="519120"/>
          </a:xfrm>
          <a:prstGeom prst="rect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直線コネクタ 8"/>
          <p:cNvSpPr/>
          <p:nvPr/>
        </p:nvSpPr>
        <p:spPr>
          <a:xfrm>
            <a:off x="522360" y="278604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直線コネクタ 9"/>
          <p:cNvSpPr/>
          <p:nvPr/>
        </p:nvSpPr>
        <p:spPr>
          <a:xfrm>
            <a:off x="522360" y="194328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2351160" y="25700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様（御中）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テキスト ボックス 12"/>
          <p:cNvSpPr/>
          <p:nvPr/>
        </p:nvSpPr>
        <p:spPr>
          <a:xfrm>
            <a:off x="487440" y="1727280"/>
            <a:ext cx="68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名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テキスト ボックス 16"/>
          <p:cNvSpPr/>
          <p:nvPr/>
        </p:nvSpPr>
        <p:spPr>
          <a:xfrm>
            <a:off x="106200" y="757080"/>
            <a:ext cx="3276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第</a:t>
            </a:r>
            <a:r>
              <a:rPr b="0" lang="en-US" sz="7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55</a:t>
            </a:r>
            <a:r>
              <a:rPr b="0" lang="ja-JP" sz="7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回西岡総合印刷 学会・学術会議に現地参加したことを証明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テキスト ボックス 19"/>
          <p:cNvSpPr/>
          <p:nvPr/>
        </p:nvSpPr>
        <p:spPr>
          <a:xfrm>
            <a:off x="809640" y="95724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開催日：</a:t>
            </a:r>
            <a:r>
              <a:rPr b="0" lang="en-US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20</a:t>
            </a:r>
            <a:r>
              <a:rPr b="0" lang="ja-JP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●●</a:t>
            </a:r>
            <a:r>
              <a:rPr b="0" lang="ja-JP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年●月●日・●日　</a:t>
            </a:r>
            <a:br>
              <a:rPr sz="800"/>
            </a:br>
            <a:r>
              <a:rPr b="0" lang="ja-JP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会　場：西岡総合印刷大学内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正方形/長方形 22"/>
          <p:cNvSpPr/>
          <p:nvPr/>
        </p:nvSpPr>
        <p:spPr>
          <a:xfrm>
            <a:off x="4680" y="2092320"/>
            <a:ext cx="3492720" cy="360360"/>
          </a:xfrm>
          <a:prstGeom prst="rect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テキスト ボックス 23"/>
          <p:cNvSpPr/>
          <p:nvPr/>
        </p:nvSpPr>
        <p:spPr>
          <a:xfrm>
            <a:off x="108000" y="21258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游ゴシック体 Pr6N B"/>
                <a:ea typeface="游ゴシック体 Pr6N B"/>
              </a:rPr>
              <a:t>領収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テキスト ボックス 24"/>
          <p:cNvSpPr/>
          <p:nvPr/>
        </p:nvSpPr>
        <p:spPr>
          <a:xfrm>
            <a:off x="885960" y="2832120"/>
            <a:ext cx="1731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□</a:t>
            </a:r>
            <a:r>
              <a:rPr b="0" lang="ja-JP" sz="10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　会　員　：　</a:t>
            </a:r>
            <a:r>
              <a:rPr b="0" lang="en-US" sz="10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3,000</a:t>
            </a:r>
            <a:r>
              <a:rPr b="0" lang="ja-JP" sz="10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円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□</a:t>
            </a:r>
            <a:r>
              <a:rPr b="0" lang="ja-JP" sz="10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　非会員　：　</a:t>
            </a:r>
            <a:r>
              <a:rPr b="0" lang="en-US" sz="10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1,500</a:t>
            </a:r>
            <a:r>
              <a:rPr b="0" lang="ja-JP" sz="10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円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テキスト ボックス 25"/>
          <p:cNvSpPr/>
          <p:nvPr/>
        </p:nvSpPr>
        <p:spPr>
          <a:xfrm>
            <a:off x="306360" y="320832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参加費として上記金額を領収致しました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2024</a:t>
            </a:r>
            <a:r>
              <a:rPr b="0" lang="ja-JP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年</a:t>
            </a:r>
            <a:r>
              <a:rPr b="0" lang="en-US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9</a:t>
            </a:r>
            <a:r>
              <a:rPr b="0" lang="ja-JP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月</a:t>
            </a:r>
            <a:r>
              <a:rPr b="0" lang="en-US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1</a:t>
            </a:r>
            <a:r>
              <a:rPr b="0" lang="ja-JP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日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テキスト ボックス 27"/>
          <p:cNvSpPr/>
          <p:nvPr/>
        </p:nvSpPr>
        <p:spPr>
          <a:xfrm>
            <a:off x="108000" y="163440"/>
            <a:ext cx="32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游ゴシック体 Pr6N B"/>
                <a:ea typeface="游ゴシック体 Pr6N B"/>
              </a:rPr>
              <a:t>第</a:t>
            </a:r>
            <a:r>
              <a:rPr b="0" lang="en-US" sz="1400" spc="-1" strike="noStrike">
                <a:solidFill>
                  <a:srgbClr val="ffffff"/>
                </a:solidFill>
                <a:latin typeface="游ゴシック体 Pr6N B"/>
                <a:ea typeface="游ゴシック体 Pr6N B"/>
              </a:rPr>
              <a:t>55</a:t>
            </a:r>
            <a:r>
              <a:rPr b="0" lang="ja-JP" sz="1400" spc="-1" strike="noStrike">
                <a:solidFill>
                  <a:srgbClr val="ffffff"/>
                </a:solidFill>
                <a:latin typeface="游ゴシック体 Pr6N B"/>
                <a:ea typeface="游ゴシック体 Pr6N B"/>
              </a:rPr>
              <a:t>回西岡総合印刷 学会・学術会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直線コネクタ 28"/>
          <p:cNvSpPr/>
          <p:nvPr/>
        </p:nvSpPr>
        <p:spPr>
          <a:xfrm>
            <a:off x="522360" y="15541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テキスト ボックス 29"/>
          <p:cNvSpPr/>
          <p:nvPr/>
        </p:nvSpPr>
        <p:spPr>
          <a:xfrm>
            <a:off x="487440" y="1338120"/>
            <a:ext cx="68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所属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テキスト ボックス 31"/>
          <p:cNvSpPr/>
          <p:nvPr/>
        </p:nvSpPr>
        <p:spPr>
          <a:xfrm>
            <a:off x="474840" y="522360"/>
            <a:ext cx="249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参加証明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テキスト ボックス 32"/>
          <p:cNvSpPr/>
          <p:nvPr/>
        </p:nvSpPr>
        <p:spPr>
          <a:xfrm>
            <a:off x="1104840" y="354168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西岡総合印刷大学学会・学術会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　　　　　　　　会長　西岡 太郎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四角形: 角を丸くする 33"/>
          <p:cNvSpPr/>
          <p:nvPr/>
        </p:nvSpPr>
        <p:spPr>
          <a:xfrm>
            <a:off x="2725560" y="3433680"/>
            <a:ext cx="52416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915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正方形/長方形 3"/>
          <p:cNvSpPr/>
          <p:nvPr/>
        </p:nvSpPr>
        <p:spPr>
          <a:xfrm>
            <a:off x="108000" y="112680"/>
            <a:ext cx="3276720" cy="3959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図 2" descr=""/>
          <p:cNvPicPr/>
          <p:nvPr/>
        </p:nvPicPr>
        <p:blipFill>
          <a:blip r:embed="rId1"/>
          <a:stretch/>
        </p:blipFill>
        <p:spPr>
          <a:xfrm>
            <a:off x="235080" y="3753000"/>
            <a:ext cx="166680" cy="252360"/>
          </a:xfrm>
          <a:prstGeom prst="rect">
            <a:avLst/>
          </a:prstGeom>
          <a:ln w="0">
            <a:noFill/>
          </a:ln>
        </p:spPr>
      </p:pic>
      <p:sp>
        <p:nvSpPr>
          <p:cNvPr id="68" name="テキスト ボックス 4"/>
          <p:cNvSpPr/>
          <p:nvPr/>
        </p:nvSpPr>
        <p:spPr>
          <a:xfrm>
            <a:off x="349200" y="3711600"/>
            <a:ext cx="144000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ＭＳ Ｐゴシック"/>
              </a:rPr>
              <a:t>この参加証は食べられなくなった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ＭＳ Ｐゴシック"/>
              </a:rPr>
              <a:t>お米を使った紙素材</a:t>
            </a:r>
            <a:r>
              <a:rPr b="0" lang="en-US" sz="500" spc="-1" strike="noStrike">
                <a:solidFill>
                  <a:srgbClr val="000000"/>
                </a:solidFill>
                <a:latin typeface="ＭＳ Ｐゴシック"/>
              </a:rPr>
              <a:t>Kome-kami</a:t>
            </a:r>
            <a:r>
              <a:rPr b="0" lang="ja-JP" sz="500" spc="-1" strike="noStrike">
                <a:solidFill>
                  <a:srgbClr val="000000"/>
                </a:solidFill>
                <a:latin typeface="ＭＳ Ｐゴシック"/>
              </a:rPr>
              <a:t>を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ＭＳ Ｐゴシック"/>
              </a:rPr>
              <a:t>使用しています。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2T08:03:03Z</dcterms:created>
  <dc:creator>NISHI0210</dc:creator>
  <dc:description/>
  <dc:language>en-US</dc:language>
  <cp:lastModifiedBy>宗俊 玉置</cp:lastModifiedBy>
  <dcterms:modified xsi:type="dcterms:W3CDTF">2024-08-08T08:32:21Z</dcterms:modified>
  <cp:revision>20</cp:revision>
  <dc:subject/>
  <dc:title>PowerPoint プレゼンテーション</dc:title>
</cp:coreProperties>
</file>