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492500" cy="4176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95480" y="685440"/>
            <a:ext cx="28670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F37B-6879-4CA3-ADC5-D893B8020BD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995480" y="685800"/>
            <a:ext cx="286704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CE20-7D69-4074-B58A-746FFEE4DD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233-715C-488F-AB4D-B0B6DD46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A11-E6DF-4029-BE2A-7D0E5E99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CE1-ADAE-4D5A-B25B-B98C43BE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3732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000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42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3732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000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07D-6A11-45A6-B403-7CF44E11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10D-3504-4D35-B6E2-42C89A73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C93-C3B6-434D-83C7-D89AB21E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A79-594F-4461-8F35-BC486298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E65-3725-43E0-B866-56EFA3D2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240" y="168120"/>
            <a:ext cx="314316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F12-B086-4277-919D-6219CCC4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F977-DBE3-4220-9C49-F7325EA5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20D-8F93-4518-A9FE-B2731FE3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DBD-D857-4F18-942D-347760BE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168120"/>
            <a:ext cx="3143160" cy="6955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8000"/>
          </a:bodyPr>
          <a:p>
            <a:pPr marL="177120" indent="-177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384120" indent="-147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591120" indent="-118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827640" indent="-1180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460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2320" y="3871800"/>
            <a:ext cx="110808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344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5E36-809F-4C98-A5A3-04968151768B}" type="slidenum">
              <a:rPr b="0" lang="ja-JP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6"/>
          <p:cNvSpPr/>
          <p:nvPr/>
        </p:nvSpPr>
        <p:spPr>
          <a:xfrm>
            <a:off x="-1566720" y="950760"/>
            <a:ext cx="1512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■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2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つ折参加証テンプレート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スライドサイズ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（塗り足しサイズ）</a:t>
            </a:r>
            <a:br>
              <a:rPr sz="700"/>
            </a:b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7mm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16m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赤枠（仕上がりサイズ）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1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10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フチまでイラストや写真が入る場合は、見本の様に、スライドいっぱいまで、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PDF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形式で保存してご入稿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"/>
          <p:cNvSpPr/>
          <p:nvPr/>
        </p:nvSpPr>
        <p:spPr>
          <a:xfrm>
            <a:off x="0" y="0"/>
            <a:ext cx="3492360" cy="51912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9"/>
          <p:cNvSpPr/>
          <p:nvPr/>
        </p:nvSpPr>
        <p:spPr>
          <a:xfrm>
            <a:off x="522360" y="16984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487440" y="148284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名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6"/>
          <p:cNvSpPr/>
          <p:nvPr/>
        </p:nvSpPr>
        <p:spPr>
          <a:xfrm>
            <a:off x="106200" y="2738520"/>
            <a:ext cx="327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第</a:t>
            </a:r>
            <a:r>
              <a:rPr b="0" lang="en-US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55</a:t>
            </a: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回西岡総合印刷 学会・学術会議に現地参加したことを証明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19"/>
          <p:cNvSpPr/>
          <p:nvPr/>
        </p:nvSpPr>
        <p:spPr>
          <a:xfrm>
            <a:off x="809640" y="293832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開催日：</a:t>
            </a: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20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●●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年●月●日・●日　</a:t>
            </a:r>
            <a:br>
              <a:rPr sz="800"/>
            </a:b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会　場：西岡総合印刷大学内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22"/>
          <p:cNvSpPr/>
          <p:nvPr/>
        </p:nvSpPr>
        <p:spPr>
          <a:xfrm>
            <a:off x="4680" y="2092320"/>
            <a:ext cx="3492720" cy="37620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23"/>
          <p:cNvSpPr/>
          <p:nvPr/>
        </p:nvSpPr>
        <p:spPr>
          <a:xfrm>
            <a:off x="108000" y="216072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参加証明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7"/>
          <p:cNvSpPr/>
          <p:nvPr/>
        </p:nvSpPr>
        <p:spPr>
          <a:xfrm>
            <a:off x="108000" y="163440"/>
            <a:ext cx="32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第</a:t>
            </a:r>
            <a:r>
              <a:rPr b="0" lang="en-US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55</a:t>
            </a: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回西岡総合印刷 学会・学術会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28"/>
          <p:cNvSpPr/>
          <p:nvPr/>
        </p:nvSpPr>
        <p:spPr>
          <a:xfrm>
            <a:off x="503280" y="1079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29"/>
          <p:cNvSpPr/>
          <p:nvPr/>
        </p:nvSpPr>
        <p:spPr>
          <a:xfrm>
            <a:off x="468360" y="86364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所属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32"/>
          <p:cNvSpPr/>
          <p:nvPr/>
        </p:nvSpPr>
        <p:spPr>
          <a:xfrm>
            <a:off x="1104840" y="35416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西岡総合印刷学会・学術会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　　　　　　　　会長　西岡 太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四角形: 角を丸くする 33"/>
          <p:cNvSpPr/>
          <p:nvPr/>
        </p:nvSpPr>
        <p:spPr>
          <a:xfrm>
            <a:off x="2725560" y="3433680"/>
            <a:ext cx="52416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3"/>
          <p:cNvSpPr/>
          <p:nvPr/>
        </p:nvSpPr>
        <p:spPr>
          <a:xfrm>
            <a:off x="108000" y="112680"/>
            <a:ext cx="3276720" cy="3959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図 2" descr=""/>
          <p:cNvPicPr/>
          <p:nvPr/>
        </p:nvPicPr>
        <p:blipFill>
          <a:blip r:embed="rId1"/>
          <a:stretch/>
        </p:blipFill>
        <p:spPr>
          <a:xfrm>
            <a:off x="444600" y="1784520"/>
            <a:ext cx="164880" cy="252360"/>
          </a:xfrm>
          <a:prstGeom prst="rect">
            <a:avLst/>
          </a:prstGeom>
          <a:ln w="0">
            <a:noFill/>
          </a:ln>
        </p:spPr>
      </p:pic>
      <p:sp>
        <p:nvSpPr>
          <p:cNvPr id="63" name="テキスト ボックス 4"/>
          <p:cNvSpPr/>
          <p:nvPr/>
        </p:nvSpPr>
        <p:spPr>
          <a:xfrm>
            <a:off x="569880" y="1832040"/>
            <a:ext cx="2536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この参加証は食べられなくなったお米を使った紙素材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Kome-kami</a:t>
            </a: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を使用してい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宗俊 玉置</cp:lastModifiedBy>
  <dcterms:modified xsi:type="dcterms:W3CDTF">2024-08-08T08:33:05Z</dcterms:modified>
  <cp:revision>21</cp:revision>
  <dc:subject/>
  <dc:title>PowerPoint プレゼンテーション</dc:title>
</cp:coreProperties>
</file>