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455920" y="685440"/>
            <a:ext cx="1946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1A2-96A3-422F-92D6-DEB66A7BFA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455920" y="685800"/>
            <a:ext cx="194616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97F-ABD6-4501-B862-0CA158E3A4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122-0E56-46B6-8873-0517C77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2C5-E54D-450E-8089-BEA0894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944-E09C-4EF9-9401-DA83BB47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FBB-3FEC-43C7-B87A-1EE3F42D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DA2-BA38-405A-84B4-2AE0BD4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353-260C-45F8-A95E-C5AA9496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03B-E732-4E82-8B51-9636C53A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F60-50A5-4EFB-9663-0090E8A5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247320"/>
            <a:ext cx="31431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4BC-EDD2-4B08-9843-8318A25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03-9B99-4937-A94D-D3156BB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AB7-C4AF-4821-8A93-6911FF8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57C-A759-4B1A-BBD3-43B0B40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247320"/>
            <a:ext cx="3143160" cy="1025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0000"/>
          </a:bodyPr>
          <a:p>
            <a:pPr marL="205920" indent="-2059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446400" indent="-171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687600" indent="-1371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962640" indent="-137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5707080"/>
            <a:ext cx="110808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319-BF9E-4A34-8ED9-77D19A150800}" type="slidenum">
              <a:rPr b="0" lang="ja-JP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2178000" y="122400"/>
            <a:ext cx="21096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0" rIns="183600" tIns="91800" b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3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800"/>
            </a:b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71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65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折り線位置（赤の破線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3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485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326880" y="1374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6"/>
          <p:cNvSpPr/>
          <p:nvPr/>
        </p:nvSpPr>
        <p:spPr>
          <a:xfrm>
            <a:off x="326880" y="2637000"/>
            <a:ext cx="27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第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55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回西岡総合印刷 学会・学術会議に現地参加したことを証明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687240" y="307800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開催日：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・●日　</a:t>
            </a:r>
            <a:br>
              <a:rPr sz="900"/>
            </a:b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会　場：西岡総合印刷大学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24"/>
          <p:cNvSpPr/>
          <p:nvPr/>
        </p:nvSpPr>
        <p:spPr>
          <a:xfrm>
            <a:off x="473040" y="4702320"/>
            <a:ext cx="25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　</a:t>
            </a:r>
            <a:r>
              <a:rPr b="0" lang="en-US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3,000</a:t>
            </a: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25"/>
          <p:cNvSpPr/>
          <p:nvPr/>
        </p:nvSpPr>
        <p:spPr>
          <a:xfrm>
            <a:off x="128520" y="501336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として上記金額を領収致しました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7"/>
          <p:cNvSpPr/>
          <p:nvPr/>
        </p:nvSpPr>
        <p:spPr>
          <a:xfrm>
            <a:off x="100080" y="155520"/>
            <a:ext cx="32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28"/>
          <p:cNvSpPr/>
          <p:nvPr/>
        </p:nvSpPr>
        <p:spPr>
          <a:xfrm>
            <a:off x="384120" y="11095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9"/>
          <p:cNvSpPr/>
          <p:nvPr/>
        </p:nvSpPr>
        <p:spPr>
          <a:xfrm>
            <a:off x="328680" y="888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32"/>
          <p:cNvSpPr/>
          <p:nvPr/>
        </p:nvSpPr>
        <p:spPr>
          <a:xfrm>
            <a:off x="210960" y="55278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四角形: 角を丸くする 33"/>
          <p:cNvSpPr/>
          <p:nvPr/>
        </p:nvSpPr>
        <p:spPr>
          <a:xfrm>
            <a:off x="2754360" y="545472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正方形/長方形 5"/>
          <p:cNvSpPr/>
          <p:nvPr/>
        </p:nvSpPr>
        <p:spPr>
          <a:xfrm>
            <a:off x="106200" y="101520"/>
            <a:ext cx="3275280" cy="594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11"/>
          <p:cNvSpPr/>
          <p:nvPr/>
        </p:nvSpPr>
        <p:spPr>
          <a:xfrm>
            <a:off x="-3240" y="212724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>
            <a:off x="384120" y="16207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3"/>
          <p:cNvSpPr/>
          <p:nvPr/>
        </p:nvSpPr>
        <p:spPr>
          <a:xfrm>
            <a:off x="106200" y="219384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8"/>
          <p:cNvSpPr/>
          <p:nvPr/>
        </p:nvSpPr>
        <p:spPr>
          <a:xfrm>
            <a:off x="-3240" y="414036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3"/>
          <p:cNvSpPr/>
          <p:nvPr/>
        </p:nvSpPr>
        <p:spPr>
          <a:xfrm>
            <a:off x="106200" y="420696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24"/>
          <p:cNvSpPr/>
          <p:nvPr/>
        </p:nvSpPr>
        <p:spPr>
          <a:xfrm>
            <a:off x="863640" y="4956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2"/>
          <p:cNvSpPr/>
          <p:nvPr/>
        </p:nvSpPr>
        <p:spPr>
          <a:xfrm>
            <a:off x="210960" y="36370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四角形: 角を丸くする 26"/>
          <p:cNvSpPr/>
          <p:nvPr/>
        </p:nvSpPr>
        <p:spPr>
          <a:xfrm>
            <a:off x="2754360" y="356400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線コネクタ 30"/>
          <p:cNvSpPr/>
          <p:nvPr/>
        </p:nvSpPr>
        <p:spPr>
          <a:xfrm>
            <a:off x="0" y="414036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2"/>
          <p:cNvSpPr/>
          <p:nvPr/>
        </p:nvSpPr>
        <p:spPr>
          <a:xfrm>
            <a:off x="0" y="212400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図 6" descr=""/>
          <p:cNvPicPr/>
          <p:nvPr/>
        </p:nvPicPr>
        <p:blipFill>
          <a:blip r:embed="rId1"/>
          <a:stretch/>
        </p:blipFill>
        <p:spPr>
          <a:xfrm>
            <a:off x="523800" y="1817640"/>
            <a:ext cx="166680" cy="252360"/>
          </a:xfrm>
          <a:prstGeom prst="rect">
            <a:avLst/>
          </a:prstGeom>
          <a:ln w="0">
            <a:noFill/>
          </a:ln>
        </p:spPr>
      </p:pic>
      <p:sp>
        <p:nvSpPr>
          <p:cNvPr id="72" name="テキスト ボックス 7"/>
          <p:cNvSpPr/>
          <p:nvPr/>
        </p:nvSpPr>
        <p:spPr>
          <a:xfrm>
            <a:off x="649440" y="1865160"/>
            <a:ext cx="25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参加証は食べられなくなったお米を使った紙素材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Kome-kami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を使用して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8:33:00Z</dcterms:modified>
  <cp:revision>26</cp:revision>
  <dc:subject/>
  <dc:title>PowerPoint プレゼンテーション</dc:title>
</cp:coreProperties>
</file>