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B50-F31D-4517-B858-240F5B7417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DE71-6482-416C-844F-68B06B32A8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C9C-ED80-4750-A24E-C2F7FFE1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EA6-F90F-4666-926A-15C95221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4FB-D4C1-4BEA-AD2E-C42BE2CE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942-2BAE-48A0-B1EF-83A3D70A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260-8336-423B-9EB8-32C26902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9D0-E1C8-4735-9C04-BC4BCFAD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B5B-A897-4B82-AC81-114E186C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625-BDB1-4794-A89E-C8F3EA0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700-7952-4B48-BBAD-A3C7F421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622-A820-4C54-BCF6-18785EA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9DF-FC34-4C2D-AF48-F7D8546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369-556B-43AB-9B4F-893267F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049-BC3A-41C7-B42C-4C73524887CB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1566720" y="950760"/>
            <a:ext cx="1512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2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700"/>
            </a:b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6m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0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5191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9"/>
          <p:cNvSpPr/>
          <p:nvPr/>
        </p:nvSpPr>
        <p:spPr>
          <a:xfrm>
            <a:off x="522360" y="16984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487440" y="14828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6"/>
          <p:cNvSpPr/>
          <p:nvPr/>
        </p:nvSpPr>
        <p:spPr>
          <a:xfrm>
            <a:off x="106200" y="273852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第</a:t>
            </a: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55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回西岡総合印刷 学会・学術会議に現地参加したことを証明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9"/>
          <p:cNvSpPr/>
          <p:nvPr/>
        </p:nvSpPr>
        <p:spPr>
          <a:xfrm>
            <a:off x="809640" y="29383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開催日：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●●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●月●日・●日　</a:t>
            </a:r>
            <a:br>
              <a:rPr sz="800"/>
            </a:b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会　場：西岡総合印刷大学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22"/>
          <p:cNvSpPr/>
          <p:nvPr/>
        </p:nvSpPr>
        <p:spPr>
          <a:xfrm>
            <a:off x="4680" y="2092320"/>
            <a:ext cx="3492720" cy="37620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23"/>
          <p:cNvSpPr/>
          <p:nvPr/>
        </p:nvSpPr>
        <p:spPr>
          <a:xfrm>
            <a:off x="108000" y="21607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参加証明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7"/>
          <p:cNvSpPr/>
          <p:nvPr/>
        </p:nvSpPr>
        <p:spPr>
          <a:xfrm>
            <a:off x="108000" y="163440"/>
            <a:ext cx="32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28"/>
          <p:cNvSpPr/>
          <p:nvPr/>
        </p:nvSpPr>
        <p:spPr>
          <a:xfrm>
            <a:off x="503280" y="1079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9"/>
          <p:cNvSpPr/>
          <p:nvPr/>
        </p:nvSpPr>
        <p:spPr>
          <a:xfrm>
            <a:off x="468360" y="8636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2"/>
          <p:cNvSpPr/>
          <p:nvPr/>
        </p:nvSpPr>
        <p:spPr>
          <a:xfrm>
            <a:off x="1104840" y="35416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西岡総合印刷学会・学術会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　　　　　　　会長　西岡 太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四角形: 角を丸くする 33"/>
          <p:cNvSpPr/>
          <p:nvPr/>
        </p:nvSpPr>
        <p:spPr>
          <a:xfrm>
            <a:off x="2725560" y="3433680"/>
            <a:ext cx="52416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3"/>
          <p:cNvSpPr/>
          <p:nvPr/>
        </p:nvSpPr>
        <p:spPr>
          <a:xfrm>
            <a:off x="108000" y="112680"/>
            <a:ext cx="3276720" cy="3959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7:40:23Z</dcterms:modified>
  <cp:revision>20</cp:revision>
  <dc:subject/>
  <dc:title>PowerPoint プレゼンテーション</dc:title>
</cp:coreProperties>
</file>