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492500" cy="6156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455920" y="685440"/>
            <a:ext cx="194616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F6C5-83A7-4552-B24F-A59CD710F81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2455920" y="685800"/>
            <a:ext cx="194616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表面デー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77CA-099E-43FF-8FB6-227D4A37CA9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C86F-26C6-473A-9059-E94E4E13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4240" y="-1983600"/>
            <a:ext cx="3143160" cy="548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4240" y="1436400"/>
            <a:ext cx="314316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1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4240" y="3559320"/>
            <a:ext cx="314316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1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21E0-3599-4285-951C-B4C98FD6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4240" y="-1983600"/>
            <a:ext cx="3143160" cy="548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4240" y="1436400"/>
            <a:ext cx="153360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6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84880" y="1436400"/>
            <a:ext cx="153360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6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4240" y="3559320"/>
            <a:ext cx="153360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6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84880" y="3559320"/>
            <a:ext cx="153360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6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1E26-5FEE-4185-A7C7-B1A6390B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4240" y="-1983600"/>
            <a:ext cx="3143160" cy="548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4240" y="1436400"/>
            <a:ext cx="101196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37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37320" y="1436400"/>
            <a:ext cx="101196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37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00040" y="1436400"/>
            <a:ext cx="101196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37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4240" y="3559320"/>
            <a:ext cx="101196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37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37320" y="3559320"/>
            <a:ext cx="101196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37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00040" y="3559320"/>
            <a:ext cx="101196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37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DFE2-BCAE-49AD-9E2B-78E1B5AFE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4240" y="-1983600"/>
            <a:ext cx="3143160" cy="548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4240" y="1436400"/>
            <a:ext cx="314316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D14A-AFF1-4C96-BDA6-02547E56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240" y="-1983600"/>
            <a:ext cx="3143160" cy="548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4240" y="1436400"/>
            <a:ext cx="3143160" cy="40640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9B83-FAAB-465E-A8DE-B4989695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240" y="-1983600"/>
            <a:ext cx="3143160" cy="548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4240" y="1436400"/>
            <a:ext cx="1533600" cy="40640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65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84880" y="1436400"/>
            <a:ext cx="1533600" cy="40640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65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6232-F8A7-4F98-BDF9-1BB12D3E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4240" y="-1983600"/>
            <a:ext cx="3143160" cy="548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C094-B1FD-4746-B889-2779C089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4240" y="247320"/>
            <a:ext cx="3143160" cy="47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570F-E2C5-46C2-A673-1E783C9D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240" y="-1983600"/>
            <a:ext cx="3143160" cy="548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4240" y="1436400"/>
            <a:ext cx="153360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6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84880" y="1436400"/>
            <a:ext cx="1533600" cy="40640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65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4240" y="3559320"/>
            <a:ext cx="153360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6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4E6F-D970-4141-8A64-D2B415AD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4240" y="-1983600"/>
            <a:ext cx="3143160" cy="548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4240" y="1436400"/>
            <a:ext cx="1533600" cy="40640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65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84880" y="1436400"/>
            <a:ext cx="153360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6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4880" y="3559320"/>
            <a:ext cx="153360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6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9458-3B2E-4C41-867C-A1D76A4F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4240" y="-1983600"/>
            <a:ext cx="3143160" cy="548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4240" y="1436400"/>
            <a:ext cx="153360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6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84880" y="1436400"/>
            <a:ext cx="153360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6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4240" y="3559320"/>
            <a:ext cx="314316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1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574C-EEE7-4488-9AA9-43C243BC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240" y="247320"/>
            <a:ext cx="3143160" cy="10256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4240" y="1436400"/>
            <a:ext cx="3143160" cy="40640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30000"/>
          </a:bodyPr>
          <a:p>
            <a:pPr marL="205920" indent="-20592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1" marL="446400" indent="-17172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2" marL="687600" indent="-13716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3" marL="962640" indent="-13716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4" marL="1238040" indent="-13716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5" marL="1238040" indent="-13716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6" marL="1238040" indent="-13716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4600" y="5707080"/>
            <a:ext cx="814320" cy="3268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92320" y="5707080"/>
            <a:ext cx="1108080" cy="3268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503440" y="5707080"/>
            <a:ext cx="814320" cy="3268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2A27-39F7-4224-8BA7-F74FEF7DBECD}" type="slidenum">
              <a:rPr b="0" lang="ja-JP" sz="2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6"/>
          <p:cNvSpPr/>
          <p:nvPr/>
        </p:nvSpPr>
        <p:spPr>
          <a:xfrm>
            <a:off x="-2178000" y="122400"/>
            <a:ext cx="2109600" cy="21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0" rIns="183600" tIns="91800" bIns="91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■</a:t>
            </a:r>
            <a:r>
              <a:rPr b="0" lang="en-US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3</a:t>
            </a: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つ折参加証テンプレート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●</a:t>
            </a: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スライドサイズ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（塗り足しサイズ）</a:t>
            </a:r>
            <a:br>
              <a:rPr sz="800"/>
            </a:b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　幅</a:t>
            </a:r>
            <a:r>
              <a:rPr b="0" lang="en-US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97mm</a:t>
            </a: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高さ</a:t>
            </a:r>
            <a:r>
              <a:rPr b="0" lang="en-US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171m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●</a:t>
            </a: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赤枠（仕上がりサイズ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　幅</a:t>
            </a:r>
            <a:r>
              <a:rPr b="0" lang="en-US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91</a:t>
            </a:r>
            <a:r>
              <a:rPr b="0" lang="en-US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㎜</a:t>
            </a: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高さ</a:t>
            </a:r>
            <a:r>
              <a:rPr b="0" lang="en-US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165</a:t>
            </a:r>
            <a:r>
              <a:rPr b="0" lang="en-US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㎜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●</a:t>
            </a: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折り線位置（赤の破線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　</a:t>
            </a:r>
            <a:r>
              <a:rPr b="0" lang="en-US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56mm</a:t>
            </a: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／</a:t>
            </a:r>
            <a:r>
              <a:rPr b="0" lang="en-US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56mm</a:t>
            </a: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／</a:t>
            </a:r>
            <a:r>
              <a:rPr b="0" lang="en-US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53m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フチまでイラストや写真が入る場合は、見本の様に、スライドいっぱいまで、色や写真を配置してください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※</a:t>
            </a:r>
            <a:r>
              <a:rPr b="0" lang="en-US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PDF</a:t>
            </a: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形式で保存してご入稿ください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1"/>
          <p:cNvSpPr/>
          <p:nvPr/>
        </p:nvSpPr>
        <p:spPr>
          <a:xfrm>
            <a:off x="0" y="0"/>
            <a:ext cx="3492360" cy="48564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テキスト ボックス 12"/>
          <p:cNvSpPr/>
          <p:nvPr/>
        </p:nvSpPr>
        <p:spPr>
          <a:xfrm>
            <a:off x="326880" y="1374840"/>
            <a:ext cx="100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游明朝"/>
                <a:ea typeface="游明朝"/>
              </a:rPr>
              <a:t>名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テキスト ボックス 16"/>
          <p:cNvSpPr/>
          <p:nvPr/>
        </p:nvSpPr>
        <p:spPr>
          <a:xfrm>
            <a:off x="326880" y="2637000"/>
            <a:ext cx="275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游明朝"/>
                <a:ea typeface="游明朝"/>
              </a:rPr>
              <a:t>第</a:t>
            </a:r>
            <a:r>
              <a:rPr b="0" lang="en-US" sz="900" spc="-1" strike="noStrike">
                <a:solidFill>
                  <a:srgbClr val="000000"/>
                </a:solidFill>
                <a:latin typeface="游明朝"/>
                <a:ea typeface="游明朝"/>
              </a:rPr>
              <a:t>55</a:t>
            </a:r>
            <a:r>
              <a:rPr b="0" lang="ja-JP" sz="900" spc="-1" strike="noStrike">
                <a:solidFill>
                  <a:srgbClr val="000000"/>
                </a:solidFill>
                <a:latin typeface="游明朝"/>
                <a:ea typeface="游明朝"/>
              </a:rPr>
              <a:t>回西岡総合印刷 学会・学術会議に現地参加したことを証明します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テキスト ボックス 19"/>
          <p:cNvSpPr/>
          <p:nvPr/>
        </p:nvSpPr>
        <p:spPr>
          <a:xfrm>
            <a:off x="687240" y="3078000"/>
            <a:ext cx="19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游明朝"/>
                <a:ea typeface="游明朝"/>
              </a:rPr>
              <a:t>開催日：</a:t>
            </a:r>
            <a:r>
              <a:rPr b="0" lang="en-US" sz="900" spc="-1" strike="noStrike">
                <a:solidFill>
                  <a:srgbClr val="000000"/>
                </a:solidFill>
                <a:latin typeface="游明朝"/>
                <a:ea typeface="游明朝"/>
              </a:rPr>
              <a:t>20</a:t>
            </a:r>
            <a:r>
              <a:rPr b="0" lang="ja-JP" sz="900" spc="-1" strike="noStrike">
                <a:solidFill>
                  <a:srgbClr val="000000"/>
                </a:solidFill>
                <a:latin typeface="游明朝"/>
                <a:ea typeface="游明朝"/>
              </a:rPr>
              <a:t>●●</a:t>
            </a:r>
            <a:r>
              <a:rPr b="0" lang="ja-JP" sz="900" spc="-1" strike="noStrike">
                <a:solidFill>
                  <a:srgbClr val="000000"/>
                </a:solidFill>
                <a:latin typeface="游明朝"/>
                <a:ea typeface="游明朝"/>
              </a:rPr>
              <a:t>年●月●日・●日　</a:t>
            </a:r>
            <a:br>
              <a:rPr sz="900"/>
            </a:br>
            <a:r>
              <a:rPr b="0" lang="ja-JP" sz="900" spc="-1" strike="noStrike">
                <a:solidFill>
                  <a:srgbClr val="000000"/>
                </a:solidFill>
                <a:latin typeface="游明朝"/>
                <a:ea typeface="游明朝"/>
              </a:rPr>
              <a:t>会　場：西岡総合印刷大学内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テキスト ボックス 24"/>
          <p:cNvSpPr/>
          <p:nvPr/>
        </p:nvSpPr>
        <p:spPr>
          <a:xfrm>
            <a:off x="473040" y="4702320"/>
            <a:ext cx="255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游明朝"/>
                <a:ea typeface="游明朝"/>
              </a:rPr>
              <a:t>参加費　</a:t>
            </a:r>
            <a:r>
              <a:rPr b="0" lang="en-US" sz="1200" spc="-1" strike="noStrike">
                <a:solidFill>
                  <a:srgbClr val="000000"/>
                </a:solidFill>
                <a:latin typeface="游明朝"/>
                <a:ea typeface="游明朝"/>
              </a:rPr>
              <a:t>3,000</a:t>
            </a:r>
            <a:r>
              <a:rPr b="0" lang="ja-JP" sz="1200" spc="-1" strike="noStrike">
                <a:solidFill>
                  <a:srgbClr val="000000"/>
                </a:solidFill>
                <a:latin typeface="游明朝"/>
                <a:ea typeface="游明朝"/>
              </a:rPr>
              <a:t>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テキスト ボックス 25"/>
          <p:cNvSpPr/>
          <p:nvPr/>
        </p:nvSpPr>
        <p:spPr>
          <a:xfrm>
            <a:off x="128520" y="5013360"/>
            <a:ext cx="326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游明朝"/>
                <a:ea typeface="游明朝"/>
              </a:rPr>
              <a:t>参加費として上記金額を領収致しました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游明朝"/>
                <a:ea typeface="游明朝"/>
              </a:rPr>
              <a:t>20</a:t>
            </a:r>
            <a:r>
              <a:rPr b="0" lang="ja-JP" sz="900" spc="-1" strike="noStrike">
                <a:solidFill>
                  <a:srgbClr val="000000"/>
                </a:solidFill>
                <a:latin typeface="游明朝"/>
                <a:ea typeface="游明朝"/>
              </a:rPr>
              <a:t>●●</a:t>
            </a:r>
            <a:r>
              <a:rPr b="0" lang="ja-JP" sz="900" spc="-1" strike="noStrike">
                <a:solidFill>
                  <a:srgbClr val="000000"/>
                </a:solidFill>
                <a:latin typeface="游明朝"/>
                <a:ea typeface="游明朝"/>
              </a:rPr>
              <a:t>年●月●日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テキスト ボックス 27"/>
          <p:cNvSpPr/>
          <p:nvPr/>
        </p:nvSpPr>
        <p:spPr>
          <a:xfrm>
            <a:off x="100080" y="155520"/>
            <a:ext cx="329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游明朝"/>
                <a:ea typeface="游明朝"/>
              </a:rPr>
              <a:t>第</a:t>
            </a:r>
            <a:r>
              <a:rPr b="0" lang="en-US" sz="1400" spc="-1" strike="noStrike">
                <a:solidFill>
                  <a:srgbClr val="ffffff"/>
                </a:solidFill>
                <a:latin typeface="游明朝"/>
                <a:ea typeface="游明朝"/>
              </a:rPr>
              <a:t>55</a:t>
            </a:r>
            <a:r>
              <a:rPr b="0" lang="ja-JP" sz="1400" spc="-1" strike="noStrike">
                <a:solidFill>
                  <a:srgbClr val="ffffff"/>
                </a:solidFill>
                <a:latin typeface="游明朝"/>
                <a:ea typeface="游明朝"/>
              </a:rPr>
              <a:t>回西岡総合印刷 学会・学術会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直線コネクタ 28"/>
          <p:cNvSpPr/>
          <p:nvPr/>
        </p:nvSpPr>
        <p:spPr>
          <a:xfrm>
            <a:off x="384120" y="1109520"/>
            <a:ext cx="267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29"/>
          <p:cNvSpPr/>
          <p:nvPr/>
        </p:nvSpPr>
        <p:spPr>
          <a:xfrm>
            <a:off x="328680" y="888840"/>
            <a:ext cx="100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游明朝"/>
                <a:ea typeface="游明朝"/>
              </a:rPr>
              <a:t>所属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テキスト ボックス 32"/>
          <p:cNvSpPr/>
          <p:nvPr/>
        </p:nvSpPr>
        <p:spPr>
          <a:xfrm>
            <a:off x="210960" y="552780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游明朝"/>
                <a:ea typeface="游明朝"/>
              </a:rPr>
              <a:t>西岡総合印刷大学学会・学術会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游明朝"/>
                <a:ea typeface="游明朝"/>
              </a:rPr>
              <a:t>　　　　　　　　会長　西岡 太郎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四角形: 角を丸くする 33"/>
          <p:cNvSpPr/>
          <p:nvPr/>
        </p:nvSpPr>
        <p:spPr>
          <a:xfrm>
            <a:off x="2754360" y="5454720"/>
            <a:ext cx="50472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915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正方形/長方形 5"/>
          <p:cNvSpPr/>
          <p:nvPr/>
        </p:nvSpPr>
        <p:spPr>
          <a:xfrm>
            <a:off x="106200" y="101520"/>
            <a:ext cx="3275280" cy="5940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正方形/長方形 11"/>
          <p:cNvSpPr/>
          <p:nvPr/>
        </p:nvSpPr>
        <p:spPr>
          <a:xfrm>
            <a:off x="-3240" y="2127240"/>
            <a:ext cx="3492720" cy="37296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線コネクタ 15"/>
          <p:cNvSpPr/>
          <p:nvPr/>
        </p:nvSpPr>
        <p:spPr>
          <a:xfrm>
            <a:off x="384120" y="1620720"/>
            <a:ext cx="267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テキスト ボックス 23"/>
          <p:cNvSpPr/>
          <p:nvPr/>
        </p:nvSpPr>
        <p:spPr>
          <a:xfrm>
            <a:off x="106200" y="2193840"/>
            <a:ext cx="32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游明朝"/>
                <a:ea typeface="游明朝"/>
              </a:rPr>
              <a:t>参加証明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正方形/長方形 18"/>
          <p:cNvSpPr/>
          <p:nvPr/>
        </p:nvSpPr>
        <p:spPr>
          <a:xfrm>
            <a:off x="-3240" y="4140360"/>
            <a:ext cx="3492720" cy="37296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テキスト ボックス 23"/>
          <p:cNvSpPr/>
          <p:nvPr/>
        </p:nvSpPr>
        <p:spPr>
          <a:xfrm>
            <a:off x="106200" y="4206960"/>
            <a:ext cx="32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游明朝"/>
                <a:ea typeface="游明朝"/>
              </a:rPr>
              <a:t>領収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線コネクタ 24"/>
          <p:cNvSpPr/>
          <p:nvPr/>
        </p:nvSpPr>
        <p:spPr>
          <a:xfrm>
            <a:off x="863640" y="4956120"/>
            <a:ext cx="179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32"/>
          <p:cNvSpPr/>
          <p:nvPr/>
        </p:nvSpPr>
        <p:spPr>
          <a:xfrm>
            <a:off x="210960" y="363708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游明朝"/>
                <a:ea typeface="游明朝"/>
              </a:rPr>
              <a:t>西岡総合印刷大学学会・学術会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游明朝"/>
                <a:ea typeface="游明朝"/>
              </a:rPr>
              <a:t>　　　　　　　　会長　西岡 太郎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四角形: 角を丸くする 26"/>
          <p:cNvSpPr/>
          <p:nvPr/>
        </p:nvSpPr>
        <p:spPr>
          <a:xfrm>
            <a:off x="2754360" y="3564000"/>
            <a:ext cx="50472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915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直線コネクタ 30"/>
          <p:cNvSpPr/>
          <p:nvPr/>
        </p:nvSpPr>
        <p:spPr>
          <a:xfrm>
            <a:off x="0" y="4140360"/>
            <a:ext cx="34923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線コネクタ 2"/>
          <p:cNvSpPr/>
          <p:nvPr/>
        </p:nvSpPr>
        <p:spPr>
          <a:xfrm>
            <a:off x="0" y="2124000"/>
            <a:ext cx="34923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08:03:03Z</dcterms:created>
  <dc:creator>NISHI0210</dc:creator>
  <dc:description/>
  <dc:language>en-US</dc:language>
  <cp:lastModifiedBy>宗俊 玉置</cp:lastModifiedBy>
  <dcterms:modified xsi:type="dcterms:W3CDTF">2024-08-08T06:38:46Z</dcterms:modified>
  <cp:revision>25</cp:revision>
  <dc:subject/>
  <dc:title>PowerPoint プレゼンテーション</dc:title>
</cp:coreProperties>
</file>